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50D-1AD1-4F55-9E07-30E23406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4EB-F3DB-451C-A232-96905B66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AB1EA-D888-46EA-A8D9-40AD8744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D1230-B3A7-44FD-B1ED-AF5CDF8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4DB69-DED2-47CA-8FC1-F5D013C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72F6C-2804-4787-AAE5-AEE37C59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13A1-B496-4A5C-A2D2-1A06A62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898DE-2FED-4BF5-A217-2BAA56A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E8190-7CC6-45AD-A4C1-1A84DC21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7D708-0F0F-4855-B73E-159F8F35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B8BAD-B41A-40DB-847D-A63AE514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3FD-36D5-44E3-AA16-A96B9855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6A3-94AF-4ADA-A092-8944EBDD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6F1B-B854-40F9-AE96-B7BB200B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6AB-0097-4E37-9D90-86B5070C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A96F-BBD7-4142-B3BB-53946EF5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B961-9281-46E5-999A-12B6F601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04F9-DA6A-48AB-B627-5A4DE980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54B2-41C1-46E4-B53D-96B32B1F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49E5-0009-420E-8B92-ACF48B92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669-BD97-4D97-BFE9-01718CE7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85A0-A0FB-40CA-BAB1-64FC511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D6DE-4FC8-4AB0-B14A-8A7593F3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4FB-7B40-44C6-B0AD-CB8FAAE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C210-185C-4E22-A506-45DB0773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CFA6-DD12-4FA0-A68E-DC313080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50CC-4A12-4F52-A1F9-28C6B68D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0075-E58E-4C3C-ACEE-667A658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33F5-E7E8-455E-9E19-98D27416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AF7F9-A927-4590-9687-22CDCA80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CA38-FE28-411C-9E7F-DA20988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C60-95C6-4D8E-9EF1-F5F0F715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A7BE-B60F-40B0-A57A-987552D5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599D6-A95E-4CE1-8B08-68F1EAD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80551-58DD-4D44-B35B-22129FF0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1102-563B-41BC-86B1-DC91E3C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D3352-B983-4C1E-977A-38B1773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21A1-90AB-496B-8A55-F2A880CD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61223-8E2C-4049-8F40-2C90BA6D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FDBA-F425-4C68-B428-426E301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190C8-7206-4B97-A92C-3DA573A1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2FBB-16B8-41A2-BFBC-6F66DE9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3CA-995C-490C-AB33-CD97A71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3C5F-15AF-4F25-BBC6-DD57CCB7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C3234-F7D8-4825-8285-A0734645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6870-860E-45EF-AE41-5AC0E224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72BB-EA29-477F-86AF-05228F6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77670-7C1A-4B27-A826-A9A1967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2C73-3EE5-4402-89E5-F422E2C7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E5DD8-27A4-4DF6-A5B0-ECFB27D2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8104-610B-4A43-AC0E-DF75BB73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31EE-DB6A-4080-9703-4D1ED6F2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4DBDD-8C4A-4B53-99C3-99AAE6B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245-349C-4AFC-A75D-7A16E0C0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8B4B-2A46-4FEF-9F20-DAD1C947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63B0-53A5-4A91-8DAD-3DE214BF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6D9F3-07BB-47E5-A7C5-C7C18B4A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4834-B235-4779-B540-A52D6D7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277BB-0F45-4CDD-A0CC-AACBB5E2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351CB-A191-467E-BC36-C3C30C1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F5118-32CF-4C90-852B-4AD78D10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16B9-FB17-481E-84DE-061F2071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4F1F-3BA5-4A50-B413-4095B80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E7B8-B1EE-4F1F-AFC1-735A172B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FC4-6B83-4101-B9BE-1CC7407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94A6-2010-41AD-B9FB-42C8B867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E4493-68C2-4B8F-853D-986B9B42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3350E-A21D-4B59-84E3-90FAA193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64CD4-82A8-4113-9775-F17BCA60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66EAB-AB6F-4F91-BCC6-F258A5CC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E47F-627C-4CA4-9AC5-815B9E0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2EF29-86BE-434B-86DA-0BC50D3A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947C2-383D-4716-B47E-0040EC16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BDBD7-41B9-45F4-BC9D-518D4DE1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CA774-5E21-47FF-B1E2-90E73765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456-E49A-4B55-94E3-F61AE31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2A116-7B39-4BE0-A405-CD539E6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4DE10-911C-47A1-9B04-D230A47E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37F07-C9CB-455D-949D-E713AB6A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FFC28-1213-4312-BD9F-8338D1A2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D586-C9D9-4BD8-AACA-407A205C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0B8E-977C-4516-B834-9378DAB6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ABAC-F029-4E33-BCC1-6ED8E852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77D0-A94D-4B7E-B212-CD690978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CD322-15BC-4E28-8169-D86E5EC0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2E769-E0F1-4113-BDA6-54DFF31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673-0A6D-432C-AF2C-4B8D98C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8AE7E-2857-437F-A03D-8DB6CF6F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975CC-FD6B-4411-80A5-589A4CD5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F27D2-39BF-4523-A219-CBFC180B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85222-734C-44D5-8963-F3A2085E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18466-7083-44AA-988D-B67646CA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B394C-BF02-4E8A-9635-6F132CC6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281A-FBDE-4C9D-8453-9F50D869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47E6B-EE67-45E6-BFF1-DDD605C2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AD45A-05B5-45D9-85B2-1A6852C2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031F5-F0FB-4AE9-B647-CAB7D28A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213-2495-4851-BFAA-A575674C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3F87-3033-4BEB-AE15-1317D839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2127-E577-471D-BE48-C1E008E7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75621-CE78-4525-8027-28AF681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F4FA-6688-4BE2-AFA6-4E6DDD4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5986F-2B8A-4683-95DA-FDCC3AF2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FF6E3-4F79-4012-8EDE-158B9CF3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DB27-403C-4080-9491-422133DE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1269C-FB33-4CA2-8CB3-B75EF225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E1D58-2899-4322-868D-7EBAEE5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A5CA0-A710-4E9C-A416-E3F3211F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67C4-4E62-4B5D-8544-E3E49256ED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50D8-8090-4ACB-B3A0-DA1D49B23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F05-E2E2-454C-A1FA-F3517244C41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7AFE-26AD-4EA3-96B1-3890497EE6D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7E7-D9CD-4119-A413-2BF036F7F0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C05-642C-41AE-A2D1-2810FB30D5E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2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AD4-8EC0-47BD-992D-E5D3A858D81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814-4506-4B51-8B60-E3612AC9A2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6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6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1A44-9431-4E90-9BED-D0C418C666E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-126720" y="0"/>
            <a:ext cx="31064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纪念白求恩</a:t>
            </a:r>
            <a:endParaRPr b="0" lang="en-US" sz="9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-331560" y="4221000"/>
            <a:ext cx="1642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Times New Roman"/>
                <a:ea typeface="楷体_GB2312"/>
              </a:rPr>
              <a:t>毛泽东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539640" y="155736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毫不利己专门利人的精神，表现在他对工作的极端的负责任，对同志对人民的极端的热忱。”</a:t>
            </a: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880" y="458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908000" y="46530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毫不利己专门利人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02560" y="63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二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11280" y="836640"/>
            <a:ext cx="469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三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2880" y="4384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4365720"/>
            <a:ext cx="68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对技术精益求精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1676520"/>
            <a:ext cx="739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同志是个医生，他以医疗为职业，对技术精益求精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611280" y="765000"/>
            <a:ext cx="42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四段重点句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4160" y="3933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79640" y="3933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号召全党学习白求恩同志毫无自私自利之心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1981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大家要学习他毫无自私自利之心的精神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867280" y="188640"/>
            <a:ext cx="2772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Arial"/>
                <a:ea typeface="楷体_GB2312"/>
              </a:rPr>
              <a:t>文章框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10920" y="1268280"/>
            <a:ext cx="68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的国际主义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毫不利己专门利人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赞扬白求恩同志对技术精益求精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章总的结构是：分分分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0920" y="1557360"/>
            <a:ext cx="360360" cy="2951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4320" y="0"/>
            <a:ext cx="127764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号召全党学习白求恩同志的这种共产主义精神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9800" y="189000"/>
            <a:ext cx="115524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Verdana"/>
                <a:ea typeface="楷体_GB2312"/>
              </a:rPr>
              <a:t>这种精神的实质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毫无自私自利之心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137680" y="709560"/>
            <a:ext cx="51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各段内容要点之间的联系是怎样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9640" y="1773360"/>
            <a:ext cx="82296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文章前三段都是共产主义精神的具体表现。文章从三个方面阐述了白求恩同志的共产主义精神，在第四段并号召全党向他学习这种真正的共产主义者的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3a"/>
                </a:solidFill>
                <a:latin typeface="Arial"/>
                <a:ea typeface="楷体_GB2312"/>
              </a:rPr>
              <a:t>议论文和记叙文的区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430200" y="476280"/>
            <a:ext cx="871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叙”和“议”是两种不同的表达方式。议论文，以“议”为主，“叙”是为证明论点提出事实根据，“叙”要扣住论点，“叙”得简明、概括。记叙文也“叙”和“议”，记叙文以“叙”为主，“议”是用于揭示事物的本质和意义，起画龙点睛，突出中心的作用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本文是议论文，运用夹叙夹议、以议为主的写法，谈谈课文是怎样夹叙夹议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24000" y="2276640"/>
            <a:ext cx="866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一层：高度概括白求恩同志的主要                   事迹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二层：“高度概括白求恩的思想和行  动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三层：引用马列主义观点论述白求 恩同志具有伟大的国际主义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90080" y="94932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第一段：可以分为三层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3657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838836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白求恩同志是加拿大共产党员……不幸以身殉职”是记叙，其余是议论。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先叙后议。先概括简叙白求恩事迹，后赞扬他的国际主义精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252360" y="980640"/>
            <a:ext cx="79372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4800" spc="-1" strike="noStrike">
                <a:solidFill>
                  <a:srgbClr val="00003a"/>
                </a:solidFill>
                <a:latin typeface="Tahoma"/>
                <a:ea typeface="楷体_GB2312"/>
              </a:rPr>
              <a:t>问题赏析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开头对白求恩同志的介绍包含哪些内容？有什么作用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求恩不远万里来到中国，他身上最本质的东西是什么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用 “列宁主义认为”一段话的作用是什么？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简介白求恩生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尔曼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求恩（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伟大的国际主义战士，加拿大共产党员，著名的胸外科医生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7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“卢沟桥事变”爆发后，受加拿大共产党的派遣．率领由加拿大和美国人组成的医疗队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初来到中国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间经延安到达晋察冀边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2205000"/>
            <a:ext cx="289548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一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二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三层：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688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第二段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9256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分三层，每一层都是先叙后议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436400" y="609480"/>
            <a:ext cx="43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①②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｜③④⑤⑥⑦｜⑧⑨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04560" y="13716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叙议    叙   议   叙  议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35280" y="2133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高度概括白求恩精神的具体表现，后号召每个共产党员都要学习他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63640" y="3789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联系“不少的人”的表现，后分析“不少的人”的实质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2360" y="50846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转述从前线回来的人对白求恩的评价，后号召学习他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45600">
            <a:off x="2967480" y="532440"/>
            <a:ext cx="230400" cy="1600200"/>
          </a:xfrm>
          <a:custGeom>
            <a:avLst/>
            <a:gdLst>
              <a:gd name="textAreaLeft" fmla="*/ 147240 w 230400"/>
              <a:gd name="textAreaRight" fmla="*/ 230760 w 230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22"/>
                </a:lnTo>
                <a:cubicBezTo>
                  <a:pt x="10800" y="9322"/>
                  <a:pt x="5400" y="10222"/>
                  <a:pt x="0" y="10222"/>
                </a:cubicBezTo>
                <a:cubicBezTo>
                  <a:pt x="5400" y="10222"/>
                  <a:pt x="10800" y="11122"/>
                  <a:pt x="10800" y="120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18000">
            <a:off x="5330880" y="98820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50920" y="333360"/>
            <a:ext cx="865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中哪些话是正面介绍白求恩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哪些话是侧面介绍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侧面介绍有什么作用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177336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求恩毫不利己专门利人的精神……极端的热忱”是正面介绍；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3068640"/>
            <a:ext cx="873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前线回来的人……无不为之感动”是侧面介绍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79280" y="43657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侧面介绍是为了补充正面介绍的不足，通过别人的眼光来写，增强了事实的可信度，增强了文章的表达效果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68360" y="213372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3a"/>
                </a:solidFill>
                <a:latin typeface="Verdana"/>
                <a:ea typeface="楷体_GB2312"/>
              </a:rPr>
              <a:t>白求恩同志是个医生……他的医术是很高明的”是记叙，其余是议论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59520" y="98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Verdana"/>
                <a:ea typeface="楷体_GB2312"/>
              </a:rPr>
              <a:t>第三段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429264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先叙后议。先简叙白求恩对技术的钻研和医术高明，由此及彼联系两种“一班人”给以批评教育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85800" y="228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文章如何运用对比手法的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250920" y="1052640"/>
          <a:ext cx="8642160" cy="5659200"/>
        </p:xfrm>
        <a:graphic>
          <a:graphicData uri="http://schemas.openxmlformats.org/drawingml/2006/table">
            <a:tbl>
              <a:tblPr/>
              <a:tblGrid>
                <a:gridCol w="1676160"/>
                <a:gridCol w="2789280"/>
                <a:gridCol w="417672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2618280" y="1125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白求恩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82440" y="1125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不少人和一些人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057400"/>
            <a:ext cx="35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不负责任，拈轻怕重，喜欢自吹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00280" y="2286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极端负责任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1680" y="2362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工作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1680" y="388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人民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" y="5410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对技术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0028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极端的热忱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59680" y="5410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精益求精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46760" y="4876920"/>
            <a:ext cx="38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鄙薄技术工作以为不足道，以为无出路，见异思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505320"/>
            <a:ext cx="37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冷冷清清，漠不关心，麻木不仁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696080" y="642780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468360" y="1916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比方法的好处是，突出了白求恩崇高的共产主义精神，强调了向白求恩学习的必要性，明确了应该克服的缺点和今后努力的方向，从而有力的证明和阐述了论点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59400" y="9493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说说运用对比手法的好处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50920" y="21337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我和白求恩同志只见过一面……我是很悲痛的”是记叙，其余是议论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48600" y="9684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第四段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43657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楷体_GB2312"/>
              </a:rPr>
              <a:t>先叙后议。先叙述自己与白求恩的交往，然后分析和强调学习白求恩的意义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Arial"/>
                <a:ea typeface="楷体_GB2312"/>
              </a:rPr>
              <a:t>问题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回忆了同白求思同志的交往，写了哪些内容？按怎样的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只见过一面”的“只”字流露出怎样的心情？“后来他给我来过许多信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我是很悲痛的”可以改成“我很悲痛”吗？为什么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向白求恩学习的意义是什么？五个短语“一个……的人”组成排比形式，是从哪几个角度来说的？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07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5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高尚”指人格，“纯粹”指品质；“有道德”指修养；“脱离了低级趣味”指志趣；“有益于人民”指人生意义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个短语由短而稍长；气势越发磅礴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51240" y="404640"/>
            <a:ext cx="365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本文的语言有什么特色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12536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问句，如：“这是什么精神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共产主义的精神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247560" y="29242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引起读者的注意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9280" y="378936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双重否定句，如：“从前线回来的人说到白求恩，没有一个不佩服他，没有一个不为他的精神所感动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319200" y="580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加强肯定的语气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50920" y="260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比句，如：“一个人能力有大小，但只要有这点精神，就是一个高尚的人，一个纯粹的人，一个有道德的人，一个脱离了低级趣味的人，一个有益于人民的人。”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从人格、品质、修养、志趣、人生意义五个方面强调向白求恩学习的意义。采取排比增强了语言的气势，使赞颂的感情显得热情洋溢，同时也避免句子过于冗长，以此结尾，更加有力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15120"/>
            <a:ext cx="18288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76500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白求恩在涞源摩天岭前线医院医治伤员时，不幸手指感染中毒，由于他坚持工作，肘关节又发生转移性脓疡．于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939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在河北省唐县逝世。他最后一句话是：“努力吧！向着伟大的路，开辟前面的事业！”。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白求恩逝世一个月后的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月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日，毛泽东同志写下了《纪念白求恩》这篇文章。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539640" y="206064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篇议论文运用夹叙夹议的写法，既能使读者由表及里的认识白求恩同志，又能使读者懂得向白求恩同志学习什么，为什么要向他学习。此外文章还运用对比手法，正面介绍和侧面介绍，语言生动简洁，说服力强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785960" y="738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小结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1258920" y="2637000"/>
            <a:ext cx="676764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cce6"/>
                  </a:solidFill>
                  <a:miter/>
                </a:ln>
                <a:solidFill>
                  <a:srgbClr val="9f0509"/>
                </a:solidFill>
                <a:latin typeface="楷体_GB2312"/>
              </a:rPr>
              <a:t>随堂检测</a:t>
            </a:r>
            <a:endParaRPr b="1" lang="en-US" sz="9600" spc="1" strike="noStrike">
              <a:ln w="9360">
                <a:solidFill>
                  <a:srgbClr val="cccce6"/>
                </a:solidFill>
                <a:miter/>
              </a:ln>
              <a:solidFill>
                <a:srgbClr val="9f050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50920" y="476280"/>
            <a:ext cx="88930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⒈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心里充满真诚和热情。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⒉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态度冷淡，毫不关心。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⒊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到别的事物就改变原来的主意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⒋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接受工作时挑拣轻易的，害怕繁重的。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⒌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缺乏政治敏感和政治热情，对集体、对人民的利益不关心。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82000" y="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㈠用成语表达下列几句话的含义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27640" y="6206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满腔热忱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227640" y="1341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漠不关心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27640" y="285264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见异思迁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227640" y="4437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拈轻怕重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27640" y="5877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麻木不仁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0920" y="549360"/>
            <a:ext cx="864216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㈡《纪念白求恩》这篇文章题目中“纪念”二字揭示了文章的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)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写作目的与文章主旨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文章内容与论述重点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写作动机与论述缘由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．表达方式与论述方式 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8720" y="22874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696080" y="6418440"/>
            <a:ext cx="144792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79280" y="333360"/>
            <a:ext cx="8820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纪念白求恩》一文中心论点是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)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毫不利己专门利人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伟大的国际主义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毫无自私自利之心的共产主义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D.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白求恩同志对技术精益求精的精神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886520" y="47628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5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742680"/>
            <a:ext cx="779292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作 业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熟读全文，</a:t>
            </a:r>
            <a:r>
              <a:rPr b="1" lang="zh-CN" sz="6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背诵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段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复习议论文的写作方法及特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楷体_GB2312"/>
              </a:rPr>
              <a:t>学习目标的交流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学习白求恩先生的共产主义精神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夹叙夹议、以议为主的写法和对比的作 用是本文教学的重点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训练识别重点句及根据重点句归纳段意能力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75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3a"/>
                </a:solidFill>
                <a:latin typeface="Verdana"/>
                <a:ea typeface="楷体_GB2312"/>
              </a:rPr>
              <a:t>朗读课文，读准字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派遣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pài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以身殉职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xù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狭隘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ài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 拈轻怕重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niā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热忱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chén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纯粹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cuì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鄙薄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bó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    晋察冀（</a:t>
            </a:r>
            <a:r>
              <a:rPr b="1" lang="zh-CN" sz="4800" spc="-1" strike="noStrike">
                <a:solidFill>
                  <a:srgbClr val="9f0509"/>
                </a:solidFill>
                <a:latin typeface="宋体"/>
              </a:rPr>
              <a:t>jì</a:t>
            </a:r>
            <a:r>
              <a:rPr b="1" lang="zh-CN" sz="44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125360"/>
            <a:ext cx="4321440" cy="46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⑴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派遣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⑵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狭隘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⑶</a:t>
            </a: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满腔热忱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392920" y="1890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解释下列词语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24000" y="1125360"/>
            <a:ext cx="719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政府、机关、团体等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派人到某处做某项工作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2708280"/>
            <a:ext cx="732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原意为窄小，不宽阔</a:t>
            </a:r>
            <a:r>
              <a:rPr b="1" lang="zh-CN" sz="44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常用来比喻心胸</a:t>
            </a:r>
            <a:r>
              <a:rPr b="1" lang="zh-CN" sz="4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气量</a:t>
            </a:r>
            <a:r>
              <a:rPr b="1" lang="zh-CN" sz="40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见识等不开阔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635280" y="4941720"/>
            <a:ext cx="55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心里充满真诚和热情。忱：情意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305400"/>
            <a:ext cx="18288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79280" y="620640"/>
            <a:ext cx="4392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⑷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漠不关心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⑸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纯粹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⑹</a:t>
            </a:r>
            <a:r>
              <a:rPr b="1" lang="zh-CN" sz="4800" spc="-1" strike="noStrike">
                <a:solidFill>
                  <a:srgbClr val="0033cc"/>
                </a:solidFill>
                <a:latin typeface="Verdana"/>
                <a:ea typeface="楷体_GB2312"/>
              </a:rPr>
              <a:t>低级趣味：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43280" y="6206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态度冷淡，毫不关心。漠：冷淡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56000" y="24210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不含杂质，不掺杂其他成分。本课指真正、名副其实。</a:t>
            </a:r>
            <a:endParaRPr b="0" lang="en-US" sz="4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8360" y="479736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f0509"/>
                </a:solidFill>
                <a:latin typeface="楷体_GB2312"/>
                <a:ea typeface="楷体_GB2312"/>
              </a:rPr>
              <a:t>无聊而不高尚的情趣。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84360" y="1773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3a"/>
                </a:solidFill>
                <a:latin typeface="Verdana"/>
                <a:ea typeface="楷体_GB2312"/>
              </a:rPr>
              <a:t>请找出各段的重点句，再参照重点句的意思归纳各段要点（即段意）</a:t>
            </a:r>
            <a:endParaRPr b="0" lang="en-US" sz="60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2617200">
            <a:off x="7524360" y="5444640"/>
            <a:ext cx="9525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696080" y="6427800"/>
            <a:ext cx="1447920" cy="4302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684360" y="155736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个外国人，毫无利己的动机，把中国人民的解放事业当作他自己的事业，这是什么精神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国际主义的精神，这是共产主义的精神，每一个中国共产党员都要学习这种精神。”</a:t>
            </a:r>
            <a:r>
              <a:rPr b="0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8160" y="551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要点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18640" y="5516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赞扬白求恩同志的国际主义精神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69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第一段</a:t>
            </a:r>
            <a:r>
              <a:rPr b="1" lang="zh-CN" sz="4000" spc="-1" strike="noStrike">
                <a:solidFill>
                  <a:srgbClr val="00003a"/>
                </a:solidFill>
                <a:latin typeface="Verdana"/>
                <a:ea typeface="楷体_GB2312"/>
              </a:rPr>
              <a:t>重点句</a:t>
            </a:r>
            <a:r>
              <a:rPr b="1" lang="zh-CN" sz="4000" spc="-1" strike="noStrike">
                <a:solidFill>
                  <a:srgbClr val="00003a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4:13:36Z</dcterms:created>
  <dc:creator>孟平凡</dc:creator>
  <dc:description/>
  <dc:language>en-US</dc:language>
  <cp:lastModifiedBy>Lenovo User</cp:lastModifiedBy>
  <dcterms:modified xsi:type="dcterms:W3CDTF">2012-02-23T01:02:38Z</dcterms:modified>
  <cp:revision>42</cp:revision>
  <dc:subject/>
  <dc:title>PowerPoint 演示文稿</dc:title>
</cp:coreProperties>
</file>